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9A6-F0BC-4F3D-8A54-7B365825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28E-7C90-4EF5-AC81-3CFC801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2FC-8243-4D0A-8C99-00C4DE9B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718-25DC-4112-A38C-89624021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5413-1AC6-4119-8160-619DCF9A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B47E-43A6-4B90-A22D-B550B3A5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A3C-949C-4FE4-A814-9BD0973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A203-5C04-4B11-B8BC-84EEAB0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A39-AB1B-4666-98DF-27F006B7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1100-265C-4168-98E3-4CB1F650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1A04-F914-4E4E-8353-19CF2FE1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A44-A16C-4219-85DB-90F6D048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FD5-1CE1-40B1-86B6-70C987A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B0FF-D943-4F97-BDEB-46DBA82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BCF-08E4-44B2-8509-2B450A3E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1DB0-7165-45B4-ACE7-2177B48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33A-BAD9-48D7-8868-42B4BB2A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7DD-058A-4E2B-8440-291BCF20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727-0E4C-4E8E-8E3D-963BE75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252-0578-4074-B97E-1BF82474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A50-B139-455A-8ECC-4C20667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352-FC92-4F2C-A34C-C78A533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7A2-83C6-4FCC-85DB-A9A67F7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2B7-A099-4684-932A-442C169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F5F-D5AE-4A74-8C73-24095784F0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205F-2343-4A2F-B5E9-6F84B92AFE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osting Social and Emotional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eten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Integrating social and emotional learning into the curriculum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udents should be taught how to take different roles, plan a project, make decisions, solve problems, and negotiate with one another to achieve a go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ors need not view academic learning and social and emotional learning as opposite ends of a tug-of-war. When both support each other, students are more apt to be engaged in learning and develop themselves personally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 and emotional learning is the process by which peopl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e and manage 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 positive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ve probl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motivated to accomplish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responsible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risky behavi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and Emotional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and emotional skills are crucial to success in: school, work and personal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ve most important skills for success in the workplace this century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Casner-Lotto &amp; Barrington, 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sionalism / work eth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mwork / collab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al commun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thics / social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 and Emotional Competenc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ve Competency are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awarenes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aware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manag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lationship ski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ponsible decision ma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Aware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others are thinking and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athizing with people different from oursel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ing compa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earch correlates school connectedness with academic motivation (Resnick et al., 1997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lf Awareness and Self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to building a learning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awareness includes skills in recognizing our own  emotions and cultivating our strengt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management involves managing emotions and establishing and working toward short or long term go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14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lationship Skills and Decision Mak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to teamwork/ collaboration skills and socially responsible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can role play the skills involved in relationship building, i.e. apolog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ing responsibility for one’s behavior is a key component of professionalism and workplace et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4:23:59Z</dcterms:created>
  <dc:creator>North Rockland Schools</dc:creator>
  <dc:description/>
  <dc:language>en-US</dc:language>
  <cp:lastModifiedBy>North Rockland High School</cp:lastModifiedBy>
  <dcterms:modified xsi:type="dcterms:W3CDTF">2009-12-03T14:00:57Z</dcterms:modified>
  <cp:revision>3</cp:revision>
  <dc:subject/>
  <dc:title>Boosting Social and Emotional Competence</dc:title>
</cp:coreProperties>
</file>